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CB9-1CA9-487C-9F6D-2F5D602B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F7E-920B-425F-AE37-C05325CF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588D1-1A51-46AD-B241-659BE94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9895E-2F3A-409C-ADC6-23D84BD9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9EDD2-25CA-4A88-AB0A-195FD103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F663A-F399-4E52-9BC1-FDE88C4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0B844-A2AC-49AF-81E2-C374F9A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3AB30-F3FC-44E1-9118-3A9046E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C8489-0F9A-49B3-9CE6-12EF434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5F81B-1DCD-43EC-A96A-77086DA8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69532-7A3B-418C-8ADC-DF820937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C5737-7368-4B10-B7EC-1084CBFD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856-A044-4BB6-A488-DC52284E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F7CA8-98A1-4B21-8820-11232F6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F1999-DAAB-4D7C-AAD7-61EE6D0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FB407-5031-4161-8BF1-6ADA82ED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96E7D-EE5B-431E-ABB9-7C2BE4A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56AA4-99E1-449A-A525-2E5D7164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058C2-51FF-4700-870B-0503484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63E4F-8A39-4769-9AA8-2AEFFD8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58319-F7E2-4D6A-96F1-09559B8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B80BB-0158-4A75-85D9-05F5DF83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F8102-54D6-4BEF-91B0-C2EFA74D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D38-F4E6-42F5-BCB7-BDE4B230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E3BEA-2768-4091-BEB8-0C917AA3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25CC-1395-4297-83DC-A775678A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37A25-BFA0-42C5-986F-BF257FEF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CF30-912E-462C-AF11-C617DFAF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9E2B-F0D3-4D71-B3C6-D285458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1F11-155D-4BC6-BAD9-B0E0C51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B7EB0-E29C-46A2-B721-C3DCA58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BF800-430A-4243-8D2D-23D5EEC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29920-A390-4B77-B69E-F737F3D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4A8CB-B86C-44C6-B83B-6E18E5C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F13-A8AD-4D85-AB29-467E77C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3CDB8-BD11-4EE1-ABB0-34146C5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C88C-45AE-486A-8DC6-50648271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CD13-9AAA-4C6C-A5B1-4C1324B5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6D051-3226-4356-8B20-8E11D64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4F372-DC6E-4CCE-9E61-06E907B5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1F85D-29A2-4655-BB86-DF0CC0D8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99B36-3731-4061-B02A-BE1CC8B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614C8-133B-4277-AF5A-ECFAAC50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5FEA6-7852-41E0-BE31-970087D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B643C-338A-4B82-9CA6-5CD6F2E5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930A-BA7C-4E4D-BA09-15D47245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A8F8B-9A5A-41FF-A975-B5CEACC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6A31F-1581-4795-B444-0F4A0EF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5735F-E2C1-4775-9F6A-B44AE42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A3343-E049-4F17-8E70-DCD19A2F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1AF97-D1F8-49FE-993B-FC090313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8223-6255-4C99-AB83-4DA71B5C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DA2-C2BC-4E40-B28E-F681316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BAC-EE32-4652-B220-B2E3E9D7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7682-1913-41A1-971F-7C92704F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C04E-4E38-4414-8B06-5837177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89C-7F65-4A36-BB64-76DF8BE1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385-2E36-4C7A-AAC4-C21CE0F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1156-BA97-4018-859B-9EBF9A2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B08-292B-424B-A69C-5448019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D582-08A9-460E-88A8-99EC30F4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9590-9B56-4717-BEEE-F73E6DE6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8694-31C1-4AD3-86CE-A0356A7F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6F86-64C6-462F-9AF6-1B9C078A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E72E-3AAB-41ED-AD1A-A7C5530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4076-FFCD-4F78-ADF7-E08EA288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7B0F-7EF3-46C4-AF75-FC300D4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F68-FE69-4843-AA98-8CD47045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C0F8-2B87-434D-A312-F739215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EDC5-1C65-41BF-9E55-35A2DD1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240B-BFE3-41BC-AFBE-1706284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4F3F-5B12-4883-B722-D19779C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76A2-49FA-4045-BF80-1BF6995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2845-D848-493C-9F8A-8424D3F3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B70-474D-4B38-8917-250AF97F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622E-EAD3-4AA9-99CA-18D4D2C5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AF93-4F8F-4CCC-BED9-147734C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BD96-CA70-49D2-97D3-DA1DD4D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1BC-029F-4734-A9E1-3FF421D4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FEB4-68FB-4679-AA4A-1EAEF3E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CB15-BD44-457E-8545-54CDDEF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1AB3-EB70-41F4-83E4-54250961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040E-1E2F-4344-9DBD-4F6CA4B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68B1-696C-4BFA-9C6E-0E2FD14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E348-298C-435D-A2DC-281BFD0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100E-3199-4696-9F07-0EAC1DB4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4B24-B967-40DD-BF99-7BE1F9E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AA72-C131-431D-968B-DAE1330D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0BDD-C490-4A9F-9E5C-9BDB2EE7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AE0-6B26-4585-BEF7-753D806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011D-D234-469F-A49D-6E4F905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5DA7-1BD0-4EC4-9595-13B66EC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681F-9975-45AA-9330-689CDE45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1AA4-CC99-449B-99A6-F6D6CC9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CAE1-96F7-4EB3-8537-8D9F52C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BA40-6925-4CDC-B3AD-DF21D6A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3000-8DBB-412B-9E67-905D45E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8549-D7E3-4A61-A1ED-500FB94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9F7E-F9F3-4942-8F5C-F6CE271F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5560-DEC2-498A-B8FE-A48868D3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421-C1A0-434B-BA34-FF5CC22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1A51-980A-4E7B-9EFC-3D0F21E1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27F8-FBE4-4D4A-9097-BE21A976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E814-18FD-4C1C-9731-1894F208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8483A-229F-4DC4-BF82-DA6A45B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968C-29DC-4395-9A8F-1D49145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245D-C951-4E66-9280-901B3663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75E5-912D-4ECA-BCF3-E738ED2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8522-7478-4F85-9BB0-B326041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8A64-54E1-4A1B-B535-9EA5D65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7BA2-72F8-4BDD-BBE7-B324202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AAD-89E8-4B35-A61B-95937EB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091C-BE46-4290-9591-2F6DAB4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6A3B-3BDC-44B9-A346-1ED6709D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1CD9-A2B0-4305-982B-540BAADF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A45E-BA15-4965-9A6F-83602B69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B010-3F1F-4E7D-BCF2-A6D1318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FB83-B92B-4278-978E-B5FB4D1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0C8E-E14E-4282-8257-00AA293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DDAD-C48D-4187-8539-1DD1F16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0EC0-B781-43E8-98B8-C2104E55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EDAE4-B469-4050-B76C-08285D5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E1E-07F7-4D1E-B6EE-338E96D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68F1-E456-4F50-A627-1DE25E6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0BF2-E6ED-45AF-916B-9C18F65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8B1A-7538-459E-A8F9-04F478D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39DF-057B-4876-84A7-9CD20A9A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21D0-4B28-4E85-B934-441B9C4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7462-4CD5-4C8C-BF6D-6E866646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4D73-566D-4EAC-ACA7-E158878F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FDEC-F777-4A98-BC47-B8ED2DD2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4C2D-4A93-4FB2-A281-577DB47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3859-E771-47F3-B6B1-3BF2BB6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1DA-9850-425A-8F3F-78F10D6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9754-0E1E-4C86-B619-C887B943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76BE-4555-4918-9C82-3D8894F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80815-560B-4C07-A8B2-D2F6A60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6782-78A7-4232-AE22-E139550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BB11D-EE58-4E41-96DE-7C175D9F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3626-20C4-4554-822D-3E996BF5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CB110-7221-4180-A381-64C9F579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938BE-A181-4462-8F10-5869B15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A2574-B9C1-4EE8-A476-01932FE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413B7-D6B5-4AA4-80EF-D1CC929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D40-3137-4593-84F8-0EE16C51B3D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22B2-7B7F-4A32-88B1-9BA24D92F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835-0402-419D-918D-B4D7280BD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B64-365E-478F-839B-EE056B5E2F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5FAE-5283-48F5-802B-C3249875C3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87D-9461-4C86-9F10-762C98B1A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E53-64F1-4DA2-8B2F-4579DC46D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627-8A36-4396-8BB3-D107E024287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536-5649-4949-84EB-38B848C591E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6B78-E75A-44C8-8A07-2C11AF0CF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3CE-177B-4E3F-BDCF-23364C62B42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C40-F5A2-43DB-9740-FA9988636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2044-9493-4E21-BEAA-FDEC29E5B5C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9DC6-8E60-49AC-A0F4-82FAE13A5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B8B-D811-432F-975C-FC4E7C1B27B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3C0-1E6E-431D-AD90-0164FB157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2AD2-D4F1-4750-9914-687C4A6D47F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447-746B-429B-A4C3-FA4C8C4E2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E42-FCC6-4374-A7AB-62B2C40ECD2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CA0-B8C2-4F27-932C-CEDB72B61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005-2B8C-453F-9A6C-DC1FC8B7F99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954-F92D-4670-BA93-8F2A92EAF9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B3A-0446-4345-9112-1F43E1A14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5CF-7E17-4458-93B7-72795D6F673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3"/>
          <p:cNvSpPr/>
          <p:nvPr/>
        </p:nvSpPr>
        <p:spPr>
          <a:xfrm>
            <a:off x="273240" y="533520"/>
            <a:ext cx="86115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8fb08c"/>
                </a:solidFill>
                <a:uFillTx/>
                <a:latin typeface="Times New Roman"/>
              </a:rPr>
              <a:t>Preparing a Post Closing Trial Bala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drawn to show that the balance has been reduced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-Closing Trial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8fb08c"/>
                </a:solidFill>
                <a:latin typeface="Times New Roman"/>
              </a:rPr>
              <a:t>Trial Bal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 prepared after the closing entries are po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fb08c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ral Ledger accou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th balan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</a:t>
            </a:r>
            <a:r>
              <a:rPr b="1" lang="en-US" sz="2400" spc="-1" strike="noStrike" u="sng">
                <a:solidFill>
                  <a:srgbClr val="8fb08c"/>
                </a:solidFill>
                <a:uFillTx/>
                <a:latin typeface="Times New Roman"/>
              </a:rPr>
              <a:t>debits and cred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equal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240" y="1555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ST-CLOSING TRIAL BALA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D:\C21 PowerPoint\Multi_Journal\art for blue\Ch09\Ch09-03d.jpg"/>
          <p:cNvPicPr/>
          <p:nvPr/>
        </p:nvPicPr>
        <p:blipFill>
          <a:blip r:embed="rId1"/>
          <a:srcRect l="16803" t="0" r="0" b="56149"/>
          <a:stretch/>
        </p:blipFill>
        <p:spPr>
          <a:xfrm>
            <a:off x="2743200" y="914400"/>
            <a:ext cx="5905440" cy="3611520"/>
          </a:xfrm>
          <a:prstGeom prst="rect">
            <a:avLst/>
          </a:prstGeom>
          <a:ln w="0">
            <a:noFill/>
          </a:ln>
        </p:spPr>
      </p:pic>
      <p:sp>
        <p:nvSpPr>
          <p:cNvPr id="609" name="Oval 4"/>
          <p:cNvSpPr/>
          <p:nvPr/>
        </p:nvSpPr>
        <p:spPr>
          <a:xfrm>
            <a:off x="6858000" y="1143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6"/>
          <p:cNvSpPr/>
          <p:nvPr/>
        </p:nvSpPr>
        <p:spPr>
          <a:xfrm>
            <a:off x="6400800" y="4191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7"/>
          <p:cNvSpPr/>
          <p:nvPr/>
        </p:nvSpPr>
        <p:spPr>
          <a:xfrm>
            <a:off x="2971800" y="17524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1522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152280" y="135576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itles of all general ledger accounts with balances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152280" y="48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the two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2280" y="32418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account’s bal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152280" y="597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163440" y="5597640"/>
            <a:ext cx="48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152280" y="52401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7"/>
          <p:cNvSpPr/>
          <p:nvPr/>
        </p:nvSpPr>
        <p:spPr>
          <a:xfrm>
            <a:off x="152280" y="42260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8"/>
          <p:cNvSpPr/>
          <p:nvPr/>
        </p:nvSpPr>
        <p:spPr>
          <a:xfrm>
            <a:off x="342900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0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4"/>
          <p:cNvGrpSpPr/>
          <p:nvPr/>
        </p:nvGrpSpPr>
        <p:grpSpPr>
          <a:xfrm>
            <a:off x="7314840" y="4343040"/>
            <a:ext cx="609840" cy="762480"/>
            <a:chOff x="7314840" y="4343040"/>
            <a:chExt cx="609840" cy="762480"/>
          </a:xfrm>
        </p:grpSpPr>
        <p:grpSp>
          <p:nvGrpSpPr>
            <p:cNvPr id="623" name="Group 27"/>
            <p:cNvGrpSpPr/>
            <p:nvPr/>
          </p:nvGrpSpPr>
          <p:grpSpPr>
            <a:xfrm>
              <a:off x="7314840" y="4343040"/>
              <a:ext cx="609840" cy="609480"/>
              <a:chOff x="7314840" y="4343040"/>
              <a:chExt cx="609840" cy="609480"/>
            </a:xfrm>
          </p:grpSpPr>
          <p:sp>
            <p:nvSpPr>
              <p:cNvPr id="624" name="Line 24"/>
              <p:cNvSpPr/>
              <p:nvPr/>
            </p:nvSpPr>
            <p:spPr>
              <a:xfrm flipH="1" flipV="1">
                <a:off x="7314840" y="4343400"/>
                <a:ext cx="2286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5"/>
              <p:cNvSpPr/>
              <p:nvPr/>
            </p:nvSpPr>
            <p:spPr>
              <a:xfrm flipV="1">
                <a:off x="7696080" y="4343040"/>
                <a:ext cx="228600" cy="6094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Oval 19"/>
            <p:cNvSpPr/>
            <p:nvPr/>
          </p:nvSpPr>
          <p:spPr>
            <a:xfrm>
              <a:off x="7426440" y="4724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37"/>
          <p:cNvGrpSpPr/>
          <p:nvPr/>
        </p:nvGrpSpPr>
        <p:grpSpPr>
          <a:xfrm>
            <a:off x="7620120" y="2133720"/>
            <a:ext cx="1218960" cy="1904760"/>
            <a:chOff x="7620120" y="2133720"/>
            <a:chExt cx="1218960" cy="1904760"/>
          </a:xfrm>
        </p:grpSpPr>
        <p:sp>
          <p:nvSpPr>
            <p:cNvPr id="628" name="Freeform 23"/>
            <p:cNvSpPr/>
            <p:nvPr/>
          </p:nvSpPr>
          <p:spPr>
            <a:xfrm>
              <a:off x="7620120" y="2133720"/>
              <a:ext cx="1066680" cy="1904760"/>
            </a:xfrm>
            <a:prstGeom prst="pie">
              <a:avLst/>
            </a:pr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5"/>
            <p:cNvSpPr/>
            <p:nvPr/>
          </p:nvSpPr>
          <p:spPr>
            <a:xfrm>
              <a:off x="8458200" y="27432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38"/>
          <p:cNvGrpSpPr/>
          <p:nvPr/>
        </p:nvGrpSpPr>
        <p:grpSpPr>
          <a:xfrm>
            <a:off x="6933960" y="4343040"/>
            <a:ext cx="1219320" cy="1295640"/>
            <a:chOff x="6933960" y="4343040"/>
            <a:chExt cx="1219320" cy="1295640"/>
          </a:xfrm>
        </p:grpSpPr>
        <p:grpSp>
          <p:nvGrpSpPr>
            <p:cNvPr id="631" name="Group 31"/>
            <p:cNvGrpSpPr/>
            <p:nvPr/>
          </p:nvGrpSpPr>
          <p:grpSpPr>
            <a:xfrm>
              <a:off x="6933960" y="4343040"/>
              <a:ext cx="1219320" cy="1066680"/>
              <a:chOff x="6933960" y="4343040"/>
              <a:chExt cx="1219320" cy="1066680"/>
            </a:xfrm>
          </p:grpSpPr>
          <p:sp>
            <p:nvSpPr>
              <p:cNvPr id="632" name="Line 29"/>
              <p:cNvSpPr/>
              <p:nvPr/>
            </p:nvSpPr>
            <p:spPr>
              <a:xfrm flipH="1" flipV="1">
                <a:off x="6933960" y="4343400"/>
                <a:ext cx="609480" cy="9907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30"/>
              <p:cNvSpPr/>
              <p:nvPr/>
            </p:nvSpPr>
            <p:spPr>
              <a:xfrm flipV="1">
                <a:off x="7696080" y="4343040"/>
                <a:ext cx="457200" cy="1066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Oval 21"/>
            <p:cNvSpPr/>
            <p:nvPr/>
          </p:nvSpPr>
          <p:spPr>
            <a:xfrm>
              <a:off x="7443720" y="52578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3:29:17Z</dcterms:created>
  <dc:creator>Mary Colleen McLaughlin</dc:creator>
  <dc:description/>
  <dc:language>en-US</dc:language>
  <cp:lastModifiedBy>David Combs</cp:lastModifiedBy>
  <cp:lastPrinted>1999-04-03T20:57:50Z</cp:lastPrinted>
  <dcterms:modified xsi:type="dcterms:W3CDTF">2012-11-30T17:19:01Z</dcterms:modified>
  <cp:revision>16</cp:revision>
  <dc:subject/>
  <dc:title>ADJUSTING ENTRY FOR SUPPLIES</dc:title>
</cp:coreProperties>
</file>